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96A7-FB87-45A0-95EB-FC402C74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4CE4-5270-46A9-8CD6-C2BCEC8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5DC5-9F2A-418B-B82D-38F2EB12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4117-A5AE-4CB9-868F-564D57F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9463-2603-42E3-8F08-7845585C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09C9-E329-4E48-BDBD-D5DD92A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7ABC-9B30-403A-A7F2-6B6598A1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427-E161-4E24-BF87-C8DB9C2D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10DA-F2C1-4721-B20B-BE8C901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6E9F-6452-4B43-A9E5-EB3CC48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19A-2C9D-45AE-ABB4-77096A5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C137-CC84-47C7-B939-135FC06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2A12-29AE-4A32-9AB3-EACB768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AF9-8336-417A-8B19-3FBC280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57B-2128-454D-9B82-A9D5A301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B7B-6DA0-41C7-8702-F136205C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6F2-8724-4455-B860-FA6A1DF1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BE4F-768D-4EDA-A2BA-0936FA0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5E14-C767-4657-9439-1B8B7741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853B-94A7-4BA2-A3BF-BF9CA5D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A6FD-A6D5-4A6F-AA35-1ABE0DC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9010-1004-4CD5-82EE-D20339B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1FA5-145E-46D2-A7E3-8F53548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46CD-A5E5-4436-93B4-36149A3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B52-B83A-4C39-8E25-51A555E5AB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6D1-4D0A-4422-9DB8-56DF25DA04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116000" y="1773360"/>
            <a:ext cx="684072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جهاز الهضمي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46520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64360" y="404640"/>
            <a:ext cx="152892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71640" y="1052640"/>
            <a:ext cx="7129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كيف نحافظ على صحة الجهاز الهضمي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55640" cy="180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0000" y="333360"/>
            <a:ext cx="63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99"/>
                </a:solidFill>
                <a:latin typeface="Tahoma"/>
              </a:rPr>
              <a:t>الجهاز الهضم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2747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هو الجهاز الذي يقوم بعملية الهض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5280" y="3894120"/>
            <a:ext cx="1512720" cy="155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68360" y="3143160"/>
            <a:ext cx="63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99"/>
                </a:solidFill>
                <a:latin typeface="Tahoma"/>
              </a:rPr>
              <a:t>عملية الهض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42544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هى تحويل المواد الغذائية المعقدة الى مواد بسيطة سهلة الذوبان في الم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700360" y="476280"/>
            <a:ext cx="4038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يتكون الجهاز الهضمي من 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2492280"/>
            <a:ext cx="2808360" cy="64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</a:rPr>
              <a:t>قناة هضمي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492280"/>
            <a:ext cx="338472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</a:rPr>
              <a:t>ملحقات قناة هضمي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268280"/>
            <a:ext cx="8650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71640" y="1270080"/>
            <a:ext cx="122400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4797360"/>
            <a:ext cx="151272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812000" y="3357720"/>
            <a:ext cx="847800" cy="79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524720" y="4365720"/>
            <a:ext cx="1104840" cy="2087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226200" y="3295800"/>
            <a:ext cx="144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ف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بلع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1640" y="4211640"/>
            <a:ext cx="1800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مر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معد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امعاء الدقيق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امعاء الغليظ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المستقيم وفتحة الشر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797360"/>
            <a:ext cx="234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كب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بنكريا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6000" y="3727440"/>
            <a:ext cx="23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غدد اللعاب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16360" y="476280"/>
            <a:ext cx="2838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ولا : القناة الهضمي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152568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فم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425240" cy="119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2400480"/>
            <a:ext cx="885672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</a:rPr>
              <a:t>الفم يوجد به الاسنان التى تقطع وتمزق وتطحن الطعام كما يوجد به اللعاب الذي يهضم المواد النشوية ويحولها الى مواد سكري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410688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- البلعو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920" y="5084640"/>
            <a:ext cx="8893080" cy="192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مجرى لتوصيل الطعام من الفم الى المرئ وهو عضو مشترك بين الجهاز الهضمى والجهاز التنفس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16360" y="47628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مرئ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1413000"/>
            <a:ext cx="6659280" cy="192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نبوبة عضلية توصل الطعام من البلعوم الى المع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1258920" y="1052640"/>
            <a:ext cx="1944720" cy="57600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093080" y="3322800"/>
            <a:ext cx="1655640" cy="176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132000" y="278136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معد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500280"/>
            <a:ext cx="4174920" cy="57636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3573360"/>
            <a:ext cx="6840720" cy="496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كيس عضلى يشبه الكمثري ويدخل اليه الطعام من فتحة الفؤاد من اعلى ويستقر الطعام بها لمدة من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ساعات وتقوم المعدة بإفراز العصارة المعدية عليه الذي يهضم المواد البروتي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3280" y="18900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امعاء الدقيقة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028880"/>
            <a:ext cx="6480360" cy="3750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نبوبة تمتد بطول سبعة امتار ويتم فيها عملية امتصاص الطعام المهضوم ونقله الى الدم الذي يوزعه فى جميع اجزاء الج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368720" cy="1944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968720" y="765000"/>
            <a:ext cx="3059280" cy="43200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61332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امعاء الغليظة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98144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56000" y="4446720"/>
            <a:ext cx="6480000" cy="3141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هى مكان يتم فيه تخزين الفضلات والبقايا من عملية الهضم لحين طردها خارج الجسم عن طريق فتحة الشر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02920" y="4005360"/>
            <a:ext cx="1368360" cy="21420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340000" y="476280"/>
            <a:ext cx="37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ثانياً : ملحقات القناة الهضمي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443640" y="206064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51280" y="2565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- الكب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4221000"/>
            <a:ext cx="7201080" cy="3750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كبر غدة فى جسم الانسان وهو المسئول عن افراز العصارة الصفراوية ( المرارية ) التي تهضم المواد الدهنية وتحولها الى مستحلب دهني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2087640" cy="165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03640" y="112536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- البنكريا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852640"/>
            <a:ext cx="7200720" cy="253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هو الغدة المسئولة عن افراز الانسولين وإفراز العصارة البنكرياسية التي تساعد على اتمام هضم الطعا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74920" cy="2087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160360" cy="2158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95640" y="1125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– الغدد اللعابي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2852640"/>
            <a:ext cx="7200720" cy="3141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هى الغدد المسئولة عن افراز اللعاب فى الفم واللعاب يحول المواد النشوية الى مواد سكرية ( يهضم النشويات )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1:48:49Z</dcterms:created>
  <dc:creator>mido</dc:creator>
  <dc:description/>
  <dc:language>en-US</dc:language>
  <cp:lastModifiedBy>mido</cp:lastModifiedBy>
  <dcterms:modified xsi:type="dcterms:W3CDTF">2004-12-31T23:28:44Z</dcterms:modified>
  <cp:revision>4</cp:revision>
  <dc:subject/>
  <dc:title>الشريحة 1</dc:title>
</cp:coreProperties>
</file>